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8D7-E793-4993-A2E7-22995DB7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B90-846C-45C5-8636-DE9F44D8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9D0-D9AE-4F3B-B956-1591D282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28-B00B-4D6B-9588-CB26E7A6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1FCB-C38F-4BF8-94BF-C669A0A4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B12-657B-4795-A265-92C2CD1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3EAA-2257-4B76-88E0-F0E0065A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1DDD-2D37-4667-B167-CB981F7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5427-9E15-43EA-AE66-E7BBAA3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476-E225-4D9A-9321-60025DDB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BE1-575D-4765-8882-1876261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AB6-4004-41C5-A314-D7CBBE6A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514-0FD5-4218-A554-1C72D46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572-E366-4C74-BA40-33A1F05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4307-54FF-49B0-8749-BF7A3ED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50E9-B76C-4D38-829C-4E409A6A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FAD3-8564-46FE-9C40-F7004FAB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A3C2-3B8F-4A1F-A9F3-DDC3C1D3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4A4F-AB4E-443B-8A83-54D2AF5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D45C-B80F-42CB-972D-F1EB58E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73C0-CA68-42B6-A36C-7396C7F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4B98-2C92-4AB3-BFE3-E3A5FAD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027-4941-40E0-87AB-258E4B0B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7BE0-B893-407A-83B4-4AEAC12A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BD5D-7E60-4BC2-89C5-5AD229C8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F76B-29FF-4E70-93A7-1CE5052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250C-197C-4509-BAB2-9B43C75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7C2E-368C-45DC-8A40-DBD7F34D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AE7B-6973-4F4D-9868-62638844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ECFF-8A96-4CD3-8603-785B2755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A594-C536-4D7A-8B19-C1BD704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8A0D-B11A-42C1-9973-F5546BA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33E7-A918-4598-A8F3-3FB76A1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A0-9F9B-4231-B9D4-CA937239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7FC2-B5F2-4259-8B9C-14DCF31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2991-D526-40EF-9B4C-FF8FE5D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0874-9070-4E9C-83C2-6B279CCD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6354-9F6D-4F34-ADB9-75113DD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A87E-3008-43EB-BA3B-ECB4922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11B8-06D5-4BB7-92C0-12B02ECE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6C56-6F0A-495F-BC95-D1C9874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B86E-504A-4B3A-8EF7-0FFB6618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2E27-8871-4623-81A1-E413D6BA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84B-04B9-4FB0-B777-2DA4AE0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DC0-BEEE-46C5-9E78-009BF0D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12D-656D-46E5-B2AB-120D4B7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DB5-AA93-4EEE-852D-C21CFA0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5F7-94CB-49BB-9CFA-AABBFE8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5B56-9630-4766-8978-9CE839BD104F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F5D-5DA2-484D-BCC7-2814718A1B45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716-8B9D-4DEA-B682-E453995F2A82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4BB-C66A-4B29-A3C1-E4CA5933DC25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SISTEME DE OPERA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NAVIGARE WE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DIRECTOR PROI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7491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FISIER SUNET  - T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Imagine 1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201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CREARE FISIER AUDIO CU FUND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Imagine 4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204" name="Imagine 10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3881520" cy="2916360"/>
          </a:xfrm>
          <a:prstGeom prst="rect">
            <a:avLst/>
          </a:prstGeom>
          <a:ln w="0">
            <a:noFill/>
          </a:ln>
        </p:spPr>
      </p:pic>
      <p:pic>
        <p:nvPicPr>
          <p:cNvPr id="205" name="Imagine 34" descr=""/>
          <p:cNvPicPr/>
          <p:nvPr/>
        </p:nvPicPr>
        <p:blipFill>
          <a:blip r:embed="rId3"/>
          <a:stretch/>
        </p:blipFill>
        <p:spPr>
          <a:xfrm>
            <a:off x="2143080" y="38322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CREARE PAGINI WIKI </a:t>
            </a:r>
            <a:br>
              <a:rPr sz="4500"/>
            </a:b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– ADAUGARE FISI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ADAUGARE IMAGINI SUNETE PE W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POSTARE EVALUARI PE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Vivi</cp:lastModifiedBy>
  <dcterms:modified xsi:type="dcterms:W3CDTF">2012-02-12T16:06:15Z</dcterms:modified>
  <cp:revision>3</cp:revision>
  <dc:subject/>
  <dc:title>CAPITOL 1</dc:title>
</cp:coreProperties>
</file>